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2440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6792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2440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6792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1761-628A-48C9-9660-34C92B9C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C2AE-E378-4C9B-A4DA-AF05CE47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0A5F-E5D0-413E-B574-1F217268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DB0D-3484-4CA0-AC78-063DE429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502E-0CDE-4A7D-8DF3-A9F149AD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3520" y="258840"/>
            <a:ext cx="899136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4DDC-C425-47DD-9E05-9ECF417D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866E-0652-4B74-858A-212E8F9B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F7DF-505F-4BE4-B72D-876EC48B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D846-A92A-46FA-BB2B-990A23C1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39BE-D4B6-4A46-9933-520ABB00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B662-55F8-4E80-A84D-7AD938CF9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2440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6792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8088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2440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6792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A098-3C9C-4D26-B54B-E9927938E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520" y="258840"/>
            <a:ext cx="899136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63680" indent="-252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63680" indent="-252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63680" indent="-252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066680"/>
            <a:ext cx="929664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00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6632640"/>
            <a:ext cx="10064880" cy="11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0" y="6570720"/>
            <a:ext cx="10066320" cy="1219320"/>
            <a:chOff x="0" y="6570720"/>
            <a:chExt cx="10066320" cy="1219320"/>
          </a:xfrm>
        </p:grpSpPr>
        <p:sp>
          <p:nvSpPr>
            <p:cNvPr id="41" name=""/>
            <p:cNvSpPr/>
            <p:nvPr/>
          </p:nvSpPr>
          <p:spPr>
            <a:xfrm>
              <a:off x="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5564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3360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30976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08772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6388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2132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9604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19452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9120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81056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60904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434520" y="6881760"/>
              <a:ext cx="631800" cy="908280"/>
            </a:xfrm>
            <a:custGeom>
              <a:avLst/>
              <a:gdLst/>
              <a:ahLst/>
              <a:rect l="l" t="t" r="r" b="b"/>
              <a:pathLst>
                <a:path w="398" h="572">
                  <a:moveTo>
                    <a:pt x="0" y="571"/>
                  </a:moveTo>
                  <a:lnTo>
                    <a:pt x="397" y="0"/>
                  </a:lnTo>
                  <a:lnTo>
                    <a:pt x="397" y="139"/>
                  </a:lnTo>
                  <a:lnTo>
                    <a:pt x="105" y="571"/>
                  </a:lnTo>
                  <a:lnTo>
                    <a:pt x="0" y="57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3129120"/>
            <a:ext cx="900000" cy="1641240"/>
          </a:xfrm>
          <a:custGeom>
            <a:avLst/>
            <a:gdLst/>
            <a:ahLst/>
            <a:rect l="l" t="t" r="r" b="b"/>
            <a:pathLst>
              <a:path w="567" h="1034">
                <a:moveTo>
                  <a:pt x="0" y="0"/>
                </a:moveTo>
                <a:lnTo>
                  <a:pt x="566" y="0"/>
                </a:lnTo>
                <a:lnTo>
                  <a:pt x="0" y="103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900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4200" y="2590920"/>
            <a:ext cx="855000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fld id="{87185F11-C694-41CA-AC37-E678687284E3}" type="slidenum">
              <a:rPr b="0" lang="en-U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 algn="ctr">
              <a:spcBef>
                <a:spcPts val="601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6560" algn="ctr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804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132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1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1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4200" y="2590920"/>
            <a:ext cx="855000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Simple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x=1;   /* global variable - bad!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void demo(void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main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y=2;  /* local variable to main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 ("\nBefore calling demo(), x = %d and y = %d.",x,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demo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 ("\nAfter calling demo(), x = %d and y = %d.\n",x,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void demo 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x = 88, y =99;  /* local variables to demo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 ("\nWithin demo(), x = %d and y = %d.",x,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cement of Fun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7200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large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 related functions in a .c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.h file containing all the prototypes of the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include the header file in the files that uses the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mall programs, use the following order in the only one fi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to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()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05520" y="1142640"/>
            <a:ext cx="457200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math.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min(int x,int 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max(int x,int 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math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min(int x,int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turn x&gt;y?y: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max(int x,int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turn x&gt;y?x: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ursion - An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572000" cy="6324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unsigned int factorial(unsigned int 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main 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unsigned int f,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Enter value between 1 &amp; 8: 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canf("%d", &amp;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f (x &gt; 8 || x &lt;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 (”Illegal input!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 = factorial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 ("%u factorial equals %u\n", x,f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05520" y="1219320"/>
            <a:ext cx="4572000" cy="6248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unsigned int factorial (unsigned int a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f (a==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turn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 *= factorial(a-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turn 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72000" cy="62485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max(int a, int b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main()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x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max(5,8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max(x,7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05520" y="1142640"/>
            <a:ext cx="4572000" cy="62485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max(int a, int b)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a&gt;b?a: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58520" y="355320"/>
            <a:ext cx="4642200" cy="12589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19800" bIns="19800" anchor="t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C Func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7880" y="1218960"/>
            <a:ext cx="8543880" cy="61513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unction receives zero or more parameters, performs a specific task, and returns zero or one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unction is invoked by its name and paramet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wo functions have the same name in your C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wo functions have the same name AND parameter types in your C++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munication between the function and invoker is through the parameters and the return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unction is independ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“completely” self-conta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be called at any places of your code and can be ported to another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s make programs reusable and read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ynta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 Prototyp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turn_type  function_name (type1  name1, type2  name2,</a:t>
            </a:r>
            <a:br>
              <a:rPr sz="2400"/>
            </a:b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  ..., typen  namen)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 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turn_type function_name (type1 name1, type2 name2,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   ...,typen nam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....statement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3276720"/>
            <a:ext cx="8610480" cy="838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4114800"/>
            <a:ext cx="380880" cy="228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6781680"/>
            <a:ext cx="251460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unction he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848720" y="3809880"/>
            <a:ext cx="0" cy="2362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3680" y="6324480"/>
            <a:ext cx="233244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The parame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10280" y="2438280"/>
            <a:ext cx="228600" cy="3886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Prototype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double squared (double numb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void print_report (in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get _menu_choice (voi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Definition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double squared (double numbe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return (number * numb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void print_report (int report_numbe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f (report_nmber == 1)</a:t>
            </a:r>
            <a:br>
              <a:rPr sz="2000"/>
            </a:b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 printf(“Printer Report 1”);</a:t>
            </a:r>
            <a:br>
              <a:rPr sz="2000"/>
            </a:b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else</a:t>
            </a:r>
            <a:br>
              <a:rPr sz="2000"/>
            </a:b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 printf(“Not printing Report 1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646280" y="2285640"/>
            <a:ext cx="7971480" cy="4268520"/>
            <a:chOff x="1646280" y="2285640"/>
            <a:chExt cx="7971480" cy="4268520"/>
          </a:xfrm>
        </p:grpSpPr>
        <p:sp>
          <p:nvSpPr>
            <p:cNvPr id="113" name=""/>
            <p:cNvSpPr/>
            <p:nvPr/>
          </p:nvSpPr>
          <p:spPr>
            <a:xfrm>
              <a:off x="6776280" y="5850360"/>
              <a:ext cx="2841480" cy="7038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cc"/>
                  </a:solidFill>
                  <a:latin typeface="Arial"/>
                </a:rPr>
                <a:t>return type void means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cc"/>
                  </a:solidFill>
                  <a:latin typeface="Arial"/>
                </a:rPr>
                <a:t>it returns noth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 flipV="1">
              <a:off x="1646280" y="2285640"/>
              <a:ext cx="5105520" cy="3294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2133720" y="5457600"/>
              <a:ext cx="4618080" cy="561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876920" y="2695680"/>
            <a:ext cx="5082120" cy="1036080"/>
            <a:chOff x="4876920" y="2695680"/>
            <a:chExt cx="5082120" cy="1036080"/>
          </a:xfrm>
        </p:grpSpPr>
        <p:sp>
          <p:nvSpPr>
            <p:cNvPr id="117" name=""/>
            <p:cNvSpPr/>
            <p:nvPr/>
          </p:nvSpPr>
          <p:spPr>
            <a:xfrm>
              <a:off x="6203160" y="2906280"/>
              <a:ext cx="3755880" cy="8254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cc"/>
                  </a:solidFill>
                  <a:latin typeface="Arial"/>
                </a:rPr>
                <a:t>void parameter list means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cc"/>
                  </a:solidFill>
                  <a:latin typeface="Arial"/>
                </a:rPr>
                <a:t>it takes no paramet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4876920" y="2695680"/>
              <a:ext cx="1295280" cy="228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ssing Argu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guments are passed as in Java and Pas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 ca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unc1 (a, b, c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 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func1 (int x, int y, int 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argument can be any valid C expression that has a val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x = func1(x+1,func1(2,3,4),5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s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x y 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initialized by the value of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a b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conversions may occur if types do not mat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666880"/>
            <a:ext cx="106668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10080" y="2666880"/>
            <a:ext cx="13716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91320" y="2666880"/>
            <a:ext cx="190476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ameters are Passed by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7200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1" lang="en-US" sz="3200" spc="-1" strike="noStrike" u="sng">
                <a:solidFill>
                  <a:srgbClr val="9900cc"/>
                </a:solidFill>
                <a:uFillTx/>
                <a:latin typeface="Arial"/>
              </a:rPr>
              <a:t>All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 parameters are passed by value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eans they are basically local variables initialized to the values that the function is called wi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an be modified as you wish but these modifications will not be seen in the calling rout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05520" y="1142640"/>
            <a:ext cx="457200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#include&lt;stdio.h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twice(int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x=x+x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return x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main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x=10,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y=twice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rintf("%d,%d\n",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turning a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turn a value from a C function you must explicitly return it with a return stat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turn &lt;expression&gt;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pression can be any valid C expression that resolves  to the type defined in the function hea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conversion may occur if type does not ma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return statements can be used within a single function (eg: inside an “if-then-else” statement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cal Varia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Variabl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func1 (int y)</a:t>
            </a:r>
            <a:br>
              <a:rPr sz="2400"/>
            </a:b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{</a:t>
            </a:r>
            <a:br>
              <a:rPr sz="2400"/>
            </a:b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int a, b = 10;</a:t>
            </a:r>
            <a:br>
              <a:rPr sz="2400"/>
            </a:b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float rate;</a:t>
            </a:r>
            <a:br>
              <a:rPr sz="2400"/>
            </a:b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double cost = 12.55;</a:t>
            </a:r>
            <a:br>
              <a:rPr sz="2400"/>
            </a:b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.......</a:t>
            </a:r>
            <a:br>
              <a:rPr sz="2400"/>
            </a:b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se variables declared “within” the function are considered “local variable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an only be used inside the function they were declared in, and not elsew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23T21:17:46Z</dcterms:created>
  <dc:creator>Mike Katchabaw</dc:creator>
  <dc:description/>
  <dc:language>en-US</dc:language>
  <cp:lastModifiedBy>Bin Ma</cp:lastModifiedBy>
  <cp:lastPrinted>1998-07-26T16:47:22Z</cp:lastPrinted>
  <dcterms:modified xsi:type="dcterms:W3CDTF">2003-10-09T18:32:10Z</dcterms:modified>
  <cp:revision>1428</cp:revision>
  <dc:subject/>
  <dc:title>CS211 Slid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d.uwo.ca/courses/CS211b</vt:lpwstr>
  </property>
  <property fmtid="{D5CDD505-2E9C-101B-9397-08002B2CF9AE}" pid="9" name="LinkColor">
    <vt:r8>16711782</vt:r8>
  </property>
  <property fmtid="{D5CDD505-2E9C-101B-9397-08002B2CF9AE}" pid="10" name="MailAddress">
    <vt:lpwstr>katchab@csd.uwo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WINDOWS\DESKTOP\cs211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